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Хранение дел в делопроизводст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и определении сроков хранения документов могут использоваться несколько видов типовых перечней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9716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типовых управленческих документов, образующихся в деятельности организаций, с указанием сроков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документов, подлежащих приему в государственные архив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научно-технической документации, подлежащей приему в государственные архи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Что такое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ля чего предназначена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Что включается в номенклатуру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Кем составляется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Что в делопроизводстве подразумевается под термином "дело"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Из каких элементов должен состоять заголовок дел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ялова Л.М. Номенклатура дел. Порядок составления // Справочник секретаря и офис-менеджера. 2002. № 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.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3EF4-041A-485E-A6B5-8915A0F282F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7B9A-FCAC-4FF6-B0A6-A656D63ABB4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Номенклатура дел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16040"/>
            <a:ext cx="82296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утвержденный систематизированный перечень заголовков дел, заводимых в организации, с указанием сроков их хранения в установленном порядк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147840" y="1201680"/>
            <a:ext cx="2738520" cy="1460520"/>
          </a:xfrm>
          <a:prstGeom prst="downArrow">
            <a:avLst>
              <a:gd name="adj1" fmla="val 50000"/>
              <a:gd name="adj2" fmla="val 5705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оменклатура дел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7476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ет классификацию, группировку исполненных документов в де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ет систематизацию и индексацию дел, сроки их хра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жит основным учетным документом в текущей работе с докумен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яется единственным средством учета переходящих дел, т. е. дел, наполнение документами которых продолжается несколько л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овится учетно-справочной системой для последующего поиска дел со сроками хранения до 10 лет включи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ункции номенклатуры дел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1320"/>
            <a:ext cx="8229600" cy="54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используется как схема классификации при распределении и группировке исполненных документов в дела. Заголовки дел из номенклатуры переносятся на обложки д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предварительно определяет сроки хранения документов, что является первым этапом экспертизы ценности доку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используется при построении информационно-поисковой системы по документам предприятия. Классификационная схема номенклатуры может быть использована для формирования справочной картотеки на исполненные документы. При регистрации документов в регистрационный индекс часто включают индекс дела по номенклату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служит учетным документом при сдаче в архив дел со сроками хранения до 10 лет включительно. Она также является основой для составления описей на дела со сроками хранения свыше 10 лет и постоян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имеет справочное значение при изучении структуры учреждения, организации, предпри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Виды номенклатуры дел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013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иповая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ражает документы определенной категории учреждений с однотипным характером деятельности и составом документац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мерная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вляется рекомендательной и создается в тех управленческих структурах, где состав документов подразделений (филиалов, цехов, кафедр) сильно различаетс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ндивидуальная 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систематизированный перечень конкретных заголовков дел, намеченных к заведению в делопроизводстве одной организации или ее структурного подразделения в определенном календарном году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сновой</a:t>
            </a: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для составления номенклатуры являются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в (положение) организа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ожения о структурных подразделения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ификаторы участков деятельности и кодификаторы структурных подразделен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татные расписа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ы и отчеты о работе организации и ее структурных подразделен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ы организации за прошлые год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иси дел постоянного хранения, временного хранения и по личному составу, акты о выделении документов и дел к уничтожению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повые и примерные номенклатуры дел данной системы (при их наличии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шения Государственной архивной службы России и территориальных архивных органов об изменении сроков хранения тех или иных категорий докумен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Разделы номенклатуры дел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28240"/>
            <a:ext cx="82296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качестве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рвой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ы номенклатуры указывают наименования структурных подразделений (отделов), их индексы (номера) включаются в номенклатуру и, дополненные порядковым номером дела в пределах подразделения, составляют индекс дел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тор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е номенклатуры указываются полные заголовки де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реть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а номенклатуры заполняется в конце года. Каждое дело не должно превышать 250 листов, поэтому при большом объеме документов, относящихся к одному делу, допускается формирование томов, час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четверт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е номенклатуры проставляются сроки хранения дел, определенные экспертной комисси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ята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а номенклатуры дел «Примечание» заполняется в течение срока действия номенклатуры службой ДОУ, в ней проставляютс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метки о заведении дел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веден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ходящих делах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ходящее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2001 г.» или «переходящее на 2003 г.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даче дел в другую организацию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кт выдачи во временное пользова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т_№_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местонахождении подлинников документов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длинники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деле 01-02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даче дел в ведомственный архив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даны в архив по опис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07.03.2002» и т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Срок действия номенклатуры дел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92240"/>
            <a:ext cx="822960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вержденная номенклатура дел организации вводится в действие с начала следующего делопроизводственного года и действует в течение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т. Она подлежит внеплановому пересоставлению и переутверждению лишь в случаях коренного изменения функций и структуры организации (или ее структурного подразделения). При отсутствии таких изменений номенклатуру дел в конце каждого года уточняют, при необходимости корректируют и автоматически вводят в действие автоматичес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06:18Z</dcterms:modified>
  <cp:revision>137</cp:revision>
  <dc:subject/>
  <dc:title>Lecture Template </dc:title>
</cp:coreProperties>
</file>